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3ED-9E15-4288-ADEA-787262C6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706-2413-4B55-AD6C-FC9780A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CA9-E628-448C-A8F8-0B0F8DA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A17-F3A4-492F-B277-C606BA97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122-D1DC-4740-8743-32D9B2C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A06-3555-4753-8C54-D2224E23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88B-6DBA-47F8-85FA-AB327999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80A-C343-442C-8B1B-B0E53B1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842-6D54-4D11-AC6A-0016386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50A-0D95-4155-BCE6-55B2467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127-DC7E-4236-BA84-6BF175A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C7E-DB75-4B91-8665-DA4CBA05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cf0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cf0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cf0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9EB-9110-4F9E-A49C-01096930A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994040"/>
            <a:ext cx="7785000" cy="161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anielle Salvatore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hallenge!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1717"/>
                </a:solidFill>
                <a:latin typeface="Calibri"/>
              </a:rPr>
              <a:t>On your cue card, write out the half-reaction and E˚.  Find your parter AND…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which reaction will be the oxidation and which will be the reduction in the spontaneous direction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which half reaction will occur at the anode and the cathode.  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Together write and balance the net electrochemical reaction they form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cell potential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Arrange yourselves from lowest cell potential to highest cell potential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Electrolysis of Aqueous Solution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onsider who had the electrolysis of water half reactions and the E˚</a:t>
            </a:r>
            <a:r>
              <a:rPr b="0" lang="en-US" sz="2400" spc="-1" strike="noStrike" baseline="-25000">
                <a:solidFill>
                  <a:srgbClr val="fcf059"/>
                </a:solidFill>
                <a:latin typeface="Calibri"/>
              </a:rPr>
              <a:t>cell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it required.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Whose cell reactions, if they were hooked up to a battery and run in the </a:t>
            </a:r>
            <a:r>
              <a:rPr b="0" lang="en-US" sz="2400" spc="-1" strike="noStrike">
                <a:solidFill>
                  <a:srgbClr val="bd1717"/>
                </a:solidFill>
                <a:latin typeface="Calibri"/>
              </a:rPr>
              <a:t>NON-SPONTANEOUS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direction, would </a:t>
            </a:r>
            <a:r>
              <a:rPr b="0" lang="en-US" sz="2400" spc="-1" strike="noStrike">
                <a:solidFill>
                  <a:srgbClr val="bd1717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occur because water would react first?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alculate all possible cell potentials for your two half-reactions and the two electrolysis half-reactions.  Whichever combination is lowest will occur when hooked up to a battery.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Go stand in one of four groups: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A) Your reaction proceeds as written (no water electrolysis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B)  Your reaction has one water half-reaction producing H2(g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) Your reaction has one water half-reaction producing H2(g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D)  Your reaction causes only the electrolysis of water 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Homework Extension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etermine the charge on each electrode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Write out the short-hand notation for the Galvanic Cell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raw out the Galvanic cell diagram.  Show electron flow, current flow, charge on the electrode and movement of all ions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o the same for the Electrolytic Cell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upload.wikimedia.org/wikipedia/commons/3/39/Luigi_galvani.jpg"/>
          <p:cNvPicPr/>
          <p:nvPr/>
        </p:nvPicPr>
        <p:blipFill>
          <a:blip r:embed="rId3"/>
          <a:stretch/>
        </p:blipFill>
        <p:spPr>
          <a:xfrm>
            <a:off x="669960" y="1438200"/>
            <a:ext cx="4378320" cy="49021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1600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tle 1" descr=""/>
          <p:cNvPicPr/>
          <p:nvPr/>
        </p:nvPicPr>
        <p:blipFill>
          <a:blip r:embed="rId4"/>
          <a:stretch/>
        </p:blipFill>
        <p:spPr>
          <a:xfrm>
            <a:off x="5022720" y="3121200"/>
            <a:ext cx="3749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6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7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upload.wikimedia.org/wikipedia/commons/2/29/Luigi_Galvani_Experiment.jpeg"/>
          <p:cNvPicPr/>
          <p:nvPr/>
        </p:nvPicPr>
        <p:blipFill>
          <a:blip r:embed="rId2"/>
          <a:stretch/>
        </p:blipFill>
        <p:spPr>
          <a:xfrm>
            <a:off x="304920" y="262080"/>
            <a:ext cx="5589360" cy="423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splung.com/fields/images/batteries/galvani.gif"/>
          <p:cNvPicPr/>
          <p:nvPr/>
        </p:nvPicPr>
        <p:blipFill>
          <a:blip r:embed="rId3"/>
          <a:stretch/>
        </p:blipFill>
        <p:spPr>
          <a:xfrm>
            <a:off x="4889520" y="2687760"/>
            <a:ext cx="3943440" cy="7407000"/>
          </a:xfrm>
          <a:prstGeom prst="rect">
            <a:avLst/>
          </a:prstGeom>
          <a:ln w="0">
            <a:noFill/>
          </a:ln>
        </p:spPr>
      </p:pic>
      <p:pic>
        <p:nvPicPr>
          <p:cNvPr id="49" name="MSSN00568_0000[1].wav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0" y="4419720"/>
            <a:ext cx="487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uigi Galvani discovered when copper and zinc  were connected together and then both touched to different parts of a nerve of a frog leg at the same time, they made the leg contr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44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15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115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15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448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electrochem.cwru.edu/ed/encycl/fig/v01/v01-f02.jpg"/>
          <p:cNvPicPr/>
          <p:nvPr/>
        </p:nvPicPr>
        <p:blipFill>
          <a:blip r:embed="rId3"/>
          <a:stretch/>
        </p:blipFill>
        <p:spPr>
          <a:xfrm>
            <a:off x="731880" y="1798560"/>
            <a:ext cx="3870360" cy="3870360"/>
          </a:xfrm>
          <a:prstGeom prst="rect">
            <a:avLst/>
          </a:prstGeom>
          <a:ln w="0">
            <a:noFill/>
          </a:ln>
        </p:spPr>
      </p:pic>
      <p:pic>
        <p:nvPicPr>
          <p:cNvPr id="53" name="Title 1" descr=""/>
          <p:cNvPicPr/>
          <p:nvPr/>
        </p:nvPicPr>
        <p:blipFill>
          <a:blip r:embed="rId4"/>
          <a:stretch/>
        </p:blipFill>
        <p:spPr>
          <a:xfrm>
            <a:off x="5022720" y="2901960"/>
            <a:ext cx="3749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4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upload.wikimedia.org/wikipedia/commons/d/d3/Voltaic_pile.png"/>
          <p:cNvPicPr/>
          <p:nvPr/>
        </p:nvPicPr>
        <p:blipFill>
          <a:blip r:embed="rId2"/>
          <a:stretch/>
        </p:blipFill>
        <p:spPr>
          <a:xfrm>
            <a:off x="1481040" y="1328760"/>
            <a:ext cx="5327640" cy="4376880"/>
          </a:xfrm>
          <a:prstGeom prst="rect">
            <a:avLst/>
          </a:prstGeom>
          <a:ln w="0">
            <a:noFill/>
          </a:ln>
        </p:spPr>
      </p:pic>
      <p:sp>
        <p:nvSpPr>
          <p:cNvPr id="55" name="Striped Right Arrow 5"/>
          <p:cNvSpPr/>
          <p:nvPr/>
        </p:nvSpPr>
        <p:spPr>
          <a:xfrm>
            <a:off x="7238880" y="2971800"/>
            <a:ext cx="1067040" cy="990720"/>
          </a:xfrm>
          <a:prstGeom prst="pie">
            <a:avLst/>
          </a:prstGeom>
          <a:solidFill>
            <a:srgbClr val="ffffff"/>
          </a:solidFill>
          <a:ln w="25560">
            <a:solidFill>
              <a:srgbClr val="e7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2"/>
          <a:stretch/>
        </p:blipFill>
        <p:spPr>
          <a:xfrm>
            <a:off x="4870440" y="5407200"/>
            <a:ext cx="4280040" cy="115236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tle 1" descr=""/>
          <p:cNvPicPr/>
          <p:nvPr/>
        </p:nvPicPr>
        <p:blipFill>
          <a:blip r:embed="rId3"/>
          <a:stretch/>
        </p:blipFill>
        <p:spPr>
          <a:xfrm>
            <a:off x="1822320" y="231840"/>
            <a:ext cx="5370480" cy="129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2808360" cy="3152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380880" y="243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a common example of a galvanic cell. The cell is split into two parts connected by a  salt bridge. Each part is called a half-cell, and consist of one electrode and one electrolyte. This one has two  half-cells , copper metal in a solution of copper ions, and zinc metal in a solution of zinc 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04920" y="1447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rrangement of two half-cells that can produce electricity spontaneousl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6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6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1752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://video.google.ca/videosearch?q=danielle+cell&amp;hl=en&amp;emb=0&amp;aq=f#q=galvanic+cell&amp;hl=en&amp;emb=0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onstructed Galvanic Cell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82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Standard Cell Potential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3911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2:43:36Z</dcterms:created>
  <dc:creator>Danielle</dc:creator>
  <dc:description/>
  <dc:language>en-US</dc:language>
  <cp:lastModifiedBy>FradkiL</cp:lastModifiedBy>
  <dcterms:modified xsi:type="dcterms:W3CDTF">2010-05-21T19:15:04Z</dcterms:modified>
  <cp:revision>14</cp:revision>
  <dc:subject/>
  <dc:title>Galvanic Ce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3061033</vt:lpwstr>
  </property>
</Properties>
</file>